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C091-B1E8-4710-943B-458ECACF8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19F1-1359-42BF-8864-393F311D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D3FB-1AA3-4E54-B06D-7F3C1FC2A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A778-FFCD-45AF-9A0D-D8BC20720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30CD-38FA-49ED-BC5F-BF7835B27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0548-6871-4B02-9562-27774526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8E30-DEF2-4375-AD7E-3D3115AA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3C6F-D58F-4B41-985E-D42D8F72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26B8-D3E8-49EF-9128-E043B3B7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E3CC-1C69-4B66-979F-6270EF19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89C5-FF74-4D53-BD46-D141EA8D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B717-346C-4063-ADF8-B4DD92A0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5050-B42D-4045-A236-63D1FF63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E2DF-07A9-41C6-A797-F2882A8F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242E-6EBB-4C0E-9D7B-F13FF3DE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3B1A-CB51-4054-B8A5-4D69F54B2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0E7E-F1D8-4B4A-97B0-E1A68F60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4136-5B74-4697-9082-4A61A75B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D91C-43C2-42BC-B3C7-F0805AB6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E87A-1E4A-4B38-A3CB-69F6F8B5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9493-D04B-4BBD-9EDA-B3B883C3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CAF8-79FF-43F4-BC40-528DE26B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218F-B95B-4EBC-8DF8-7059ECCC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AE7D-E493-4D12-AE61-D50D8FDE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E9B0-FF0F-4FC8-9736-B351D2B3051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06A5-0724-4FE9-B623-3937C1A3DB5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lifetimeofcolor.com/study/images/light_dark_shifts.gif" TargetMode="External"/><Relationship Id="rId2" Type="http://schemas.openxmlformats.org/officeDocument/2006/relationships/hyperlink" Target="http://www.alifetimeofcolor.com/study/images/after_image.gif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Comic Sans MS"/>
              </a:rPr>
              <a:t>Colour</a:t>
            </a:r>
            <a:endParaRPr b="0" lang="en-US" sz="8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240" y="3962160"/>
            <a:ext cx="652788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In the Elementary Classro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y: Susan, Lisa, Karrie, Nadine,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rah, Catherine, and Marc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Greg Percy’s Song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http://cdbaby.com/cd/gregperc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Crayola Websit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ts of Lesson Plans, ideas, and resources for Elementary Teachers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http://www.crayola.com/lesson-plans/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981080" y="2895480"/>
            <a:ext cx="6324840" cy="36514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hat is Colour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0666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duced when light strikes an object, and reflects back i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r eyes.  There are three properti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The name of a colou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tensit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The brightness or dullness of a colou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The lightness or darkness of a colou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6191280" cy="33163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rimary &amp; Secondary Colou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imary colours are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Secondary colours a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d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US" sz="1800" spc="-1" strike="noStrike">
                <a:solidFill>
                  <a:srgbClr val="703dff"/>
                </a:solidFill>
                <a:latin typeface="Comic Sans MS"/>
              </a:rPr>
              <a:t> blu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1800" spc="-1" strike="noStrike">
                <a:solidFill>
                  <a:srgbClr val="ffef66"/>
                </a:solidFill>
                <a:latin typeface="Comic Sans MS"/>
              </a:rPr>
              <a:t>yellow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1800" spc="-1" strike="noStrike">
                <a:solidFill>
                  <a:srgbClr val="ffb800"/>
                </a:solidFill>
                <a:latin typeface="Comic Sans MS"/>
              </a:rPr>
              <a:t>orang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1800" spc="-1" strike="noStrike">
                <a:solidFill>
                  <a:srgbClr val="00b200"/>
                </a:solidFill>
                <a:latin typeface="Comic Sans MS"/>
              </a:rPr>
              <a:t>green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violet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y can not be created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They are produced by mix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y mixing other colours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Two primary colours in equal portion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6248520" y="56386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Greg Percy’s     Colour So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80010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20033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ertiary Colou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binations of primary and secondary colou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 tertiary colour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-oran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ellow-orang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ellow-gree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ue-gree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ue viole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-viol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495680" y="251460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019920" y="3886200"/>
            <a:ext cx="1876320" cy="2438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014560" cy="21049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ol &amp; Warm Colou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09480" y="99072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ol Colou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(Ex: </a:t>
            </a:r>
            <a:r>
              <a:rPr b="1" lang="en-US" sz="2000" spc="-1" strike="noStrike">
                <a:solidFill>
                  <a:srgbClr val="00b200"/>
                </a:solidFill>
                <a:latin typeface="Comic Sans MS"/>
              </a:rPr>
              <a:t>Gree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B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&amp; </a:t>
            </a:r>
            <a:r>
              <a:rPr b="1" lang="en-US" sz="2000" spc="-1" strike="noStrike">
                <a:solidFill>
                  <a:srgbClr val="990099"/>
                </a:solidFill>
                <a:latin typeface="Comic Sans MS"/>
              </a:rPr>
              <a:t>Viole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Called 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cool”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ue to their resemblance of cool objects such as a damp forest or a lake.  These colours are said to calm and relax the view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arm Colou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(Ex: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Re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b800"/>
                </a:solidFill>
                <a:latin typeface="Comic Sans MS"/>
              </a:rPr>
              <a:t>Orang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&amp; </a:t>
            </a:r>
            <a:r>
              <a:rPr b="1" lang="en-US" sz="2000" spc="-1" strike="noStrike">
                <a:solidFill>
                  <a:srgbClr val="ffef66"/>
                </a:solidFill>
                <a:latin typeface="Comic Sans MS"/>
              </a:rPr>
              <a:t>Yellow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Called 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ar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” due to their resemblance of warm objects such as the sun, or fire.  These colours are said to arouse or stimulate the view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Note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000" spc="-1" strike="noStrike">
                <a:solidFill>
                  <a:srgbClr val="996600"/>
                </a:solidFill>
                <a:latin typeface="Comic Sans MS"/>
              </a:rPr>
              <a:t>Neutral Colo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r earth tones are not seen on most color wheels.  Black, grey, and whites are neutral.  Browns, beige, taupes, and tans are neutral to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617220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dff"/>
                </a:solidFill>
                <a:latin typeface="Comic Sans MS"/>
              </a:rPr>
              <a:t>Claude Monet’s use of cool col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62720" y="6234120"/>
            <a:ext cx="28191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b800"/>
                </a:solidFill>
                <a:latin typeface="Comic Sans MS"/>
              </a:rPr>
              <a:t>Vincent Van Gogh’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b800"/>
                </a:solidFill>
                <a:latin typeface="Comic Sans MS"/>
              </a:rPr>
              <a:t>use of warm col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38480" y="4495680"/>
            <a:ext cx="18288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How do these pictures make you feel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How can colour influence a view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870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ints and Shad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int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ixture of a colour with white (Also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led a pastel colo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de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ixture of a colour with black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xing with white increases lightness, while mix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 black reduces i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xing with any neutral colou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luding black and white, reduc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rome or colourfulness, leaving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e unchang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019920" y="3962520"/>
            <a:ext cx="1885680" cy="189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6870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mplimentary Colou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lours that are opposit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e another o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colour wheel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495680" y="2286000"/>
            <a:ext cx="3486240" cy="372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ricks of </a:t>
            </a:r>
            <a:r>
              <a:rPr b="1" lang="en-US" sz="4000" spc="-1" strike="noStrike">
                <a:solidFill>
                  <a:srgbClr val="ffef66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o</a:t>
            </a:r>
            <a:r>
              <a:rPr b="1" lang="en-US" sz="4000" spc="-1" strike="noStrike">
                <a:solidFill>
                  <a:srgbClr val="ffb800"/>
                </a:solidFill>
                <a:latin typeface="Comic Sans MS"/>
              </a:rPr>
              <a:t>l</a:t>
            </a:r>
            <a:r>
              <a:rPr b="1" lang="en-US" sz="4000" spc="-1" strike="noStrike">
                <a:solidFill>
                  <a:srgbClr val="990099"/>
                </a:solidFill>
                <a:latin typeface="Comic Sans MS"/>
              </a:rPr>
              <a:t>o</a:t>
            </a:r>
            <a:r>
              <a:rPr b="1" lang="en-US" sz="4000" spc="-1" strike="noStrike">
                <a:solidFill>
                  <a:srgbClr val="00b200"/>
                </a:solidFill>
                <a:latin typeface="Comic Sans MS"/>
              </a:rPr>
              <a:t>u</a:t>
            </a:r>
            <a:r>
              <a:rPr b="1" lang="en-US" sz="4000" spc="-1" strike="noStrike">
                <a:solidFill>
                  <a:srgbClr val="a50d64"/>
                </a:solidFill>
                <a:latin typeface="Comic Sans MS"/>
              </a:rPr>
              <a:t>r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to try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with your Stude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895480" y="16765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03dff"/>
                </a:solidFill>
                <a:uFillTx/>
                <a:latin typeface="Comic Sans MS"/>
              </a:rPr>
              <a:t>Exercise #1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ach band of colour seems to shift from light t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rk.  But each band is actually a solid colour!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y? Colours seem to change when placed next to lighter or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rker colors because of the contrast.  See for yourself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Try this yourself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03dff"/>
                </a:solidFill>
                <a:uFillTx/>
                <a:latin typeface="Comic Sans MS"/>
              </a:rPr>
              <a:t>Exercise #2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are at the black dot, for 15 seconds.  Once the yellow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ircles disappear you should see yellow where the white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aces used to be.  You may even see a faint violet image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is is an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after image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of the yellow circles.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Try it yourself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85800" y="1905120"/>
            <a:ext cx="1981080" cy="30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Let’s Be Creative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19400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23:20:31Z</dcterms:created>
  <dc:creator>Marci</dc:creator>
  <dc:description/>
  <dc:language>en-US</dc:language>
  <cp:lastModifiedBy>STU</cp:lastModifiedBy>
  <dcterms:modified xsi:type="dcterms:W3CDTF">2008-06-03T14:53:29Z</dcterms:modified>
  <cp:revision>9</cp:revision>
  <dc:subject/>
  <dc:title>Colour</dc:title>
</cp:coreProperties>
</file>